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30DB-4A06-4C17-BDBD-222694374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BC7B-37E5-4398-880A-3001ECB76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8F47-675C-433E-8075-FB8902D5C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8924-DCC8-4EA1-88F5-A9F5E6F7A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8AAE-3F8A-49B0-976D-C45854987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B265-E390-4F28-AD51-A5E5114E5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2A47-396D-4B31-8B24-3B41EE0E1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ECD7-8F88-4BAF-954E-4A1E3D31F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1B8F-335E-4D8F-9C81-679FAD115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7D93-4268-457B-8AF4-1047E1D08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45BD-A6A5-4D26-BE63-30A1A3DC9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12F9-A457-46DB-A9D7-62A3CC211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E0C5-29EB-49AB-A66A-CA8F0EBC522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DesignProject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0120" y="411444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Intel Teach – Predarea în societatea cunoaşteri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t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1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unoaşterea elevil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82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tilurile diferite de învăţare ale elevilor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mpărţirea în grupe de trei membrii. Fiecare mebru al grupului va citi şi va rapor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cu privire la un aspect diferit pentru înţelegerea stilurilor de învăţar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z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l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ditiv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-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hinestezic/practi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artea stângă a creierulu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/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artea dreaptă a creier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nteligenţele multip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esursă 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Education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Designing Effective Projects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.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Tastaţi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: </a:t>
            </a:r>
            <a:r>
              <a:rPr b="0" lang="en-US" sz="14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DesignProjects</a:t>
            </a:r>
            <a:r>
              <a:rPr b="0" lang="en-US" sz="1400" spc="-1" strike="noStrike">
                <a:solidFill>
                  <a:srgbClr val="0c2e86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c2e8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. Click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Enter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. Click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Thinking Skills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d. Click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Thinking Frameworks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. Click 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Learning Styles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f. 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Citiţi despre diferite stiluri de învăţare  şi explicaţile colegilor din echip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9A68-7C46-4E6C-96C2-AE60BDB54E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2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t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1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C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unoaşterea elevil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S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sţinerea elevilor cu nevoi special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06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zuiţi materialele de pe CD resurse curriculum pentru facilitarea nevoilor tuturor elevilor şi analizaţi modul în care aţi putea include unele din aceste strategii în unitatea dumneavostră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materialele informative de la Modulul 6, activitatea 1, din CD resurse curriculum şi gândiţi-vă ce strategii vă vor ajuta să vă adaptaţi tuturor nevoilor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Aveţi în vedere liniile directore de la pagina 6.07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Not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Un studiu de diferenţiere este opţional (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iation Survey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Notaţi ideile dvs la pagin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6.07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crieţi o schiţă a strategiilor pe care le veţi folosi la secţiunea Facilităţi pentru instruirea diferenţiată din cadrul planului unităţii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40F2-283F-4363-9A10-915D979258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13840"/>
            <a:ext cx="823752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2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Analiza evaluărilor formative pentru susţinerea activităţii proprii de învăţare a elevului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08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formativă are cele mai bune rezultate cân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levilor le este dată o imagine clară a ceea ce trebuie să înveţ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levii pri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c răspunsuri continue cu privire la progresul lor în relaţie cu obiectivele propus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levii îşi evaluează propriile progres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rofesorii furnizează instrucţiuni clare cu privire la paşii pe care elevii trebuie să-i urmeze pentru a avea succ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Black &amp; Wiliam, 1998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23DF-FB55-4E72-A46E-9FCEC6A90B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e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2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zuiţi unul dintre următoarele studii de caz în care evaluările formative sunt folosite pentru a diferenţia învăţarea şi a susţine elevii în activitatea proprie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resursa Evaluarea Proiecte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ssessingProjec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2.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En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.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verview and Benefi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4.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Formative Assessmen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electaţi unul dintre studiile de caz din al doilea câmp marcat din dreapta, pent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a cit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cărcaţi documentul în forma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icrosoft Word*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şi salvaţi-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roduceţi observaţii cum ar fi întrebări, legături cu propriile experienţe sau idei. Discutaţi aceste observaţii cu partenerul dumneavoastră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A0FA-3C0C-4F09-849E-90B19B207E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e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 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2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S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usţinerea activităţii proprii de învăţare a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C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rearea unei evaluări pentru a susţine activitatea proprie de învăţare a elevului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09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o evaluare care ajută elevii să preia mai mult controlul propriului studiu, cum ar fi o evaluare care să faciliteze auto-organizarea, auto-evaluarea şi ref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cţia. Alege dintre următoarele opţiun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pt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nea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o nouă evaluare folosind aplicaţia Assessing Projec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page 6.1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pt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nea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odificaţi o evaluare existentă folosin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aplicaţi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ssessing Projects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page 6.1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pt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nea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3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D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scărcaţi şi modificaţi o evaluare din secţiune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Assessment Strategies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 l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ssessing Projects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page 6.1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Opti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unea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4: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re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ţi o evaluare folosind software de procesare a documente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(page 6.1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B773-D584-4D27-A544-F5CECB7937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2320" y="272520"/>
            <a:ext cx="83106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3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Crea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rea materialelor suport pentru a facilita succesul elevilor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1880" y="1792440"/>
            <a:ext cx="8237520" cy="39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1: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plorarea resurselor de materiale (formulare, şabloane, etc..) pentru a facilita învăţarea independentă a elevilor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ualizaţi exemplele de şabloane, formulare şi documente localizate în fişierul Modul 6, activitatea 2 de pe CD resurse curriculu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şabloane, formulare sau alte documente aţi folosi în unitatea de învăţare pentru a susţine învăţarea independentă a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Su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sţinerea gândirii matematic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3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la anumite metode prin care aţi putea integra matematica în unitatea dvs. precizaţi ideile la pagina 6.13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0BFD-45E8-41A8-B261-8ECFF537F7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200"/>
            </a:b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3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Crea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rea materialelor suport pentru a facilita succesul elevilor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1880" y="1617480"/>
            <a:ext cx="823752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 3: Crearea unor resurse suport pentru elevi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6.14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această parte alegeţi una din următoarele opţiuni pentru a crea o resursă pe care elevii o vor folosi pentru a susţine activitatea independentă de învăţare în cadrul unităţii ale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1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document (page 6.14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2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document şablon (page 6.15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 3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şablon de prezentare (page 6.15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tiunea  4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reaţi un formular (page 6.16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Creşterea rolului resurselor 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Încorporaţi gândirea matematică în resursa  suport a elevilor (page 6.16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 Intel</a:t>
            </a:r>
            <a:r>
              <a:rPr b="0" lang="ro-RO" sz="1800" spc="-1" strike="noStrike" baseline="30000">
                <a:solidFill>
                  <a:srgbClr val="0860a8"/>
                </a:solidFill>
                <a:latin typeface="Verdana"/>
              </a:rPr>
              <a:t>®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Education Help Guide de pe CD resurse curriculum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9507-4946-4943-BE60-7CDBE582C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4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vi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zuirea planului unităţii de învăţare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8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1880" y="1618920"/>
            <a:ext cx="82375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şi revizuiţi “Lista de verificare a Planului Unităţii de învăţare” salvată în folderul unit_plan din folderul Portofol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izuiţi secţiunea Planului de Evaluare pentru a include evaluări suplimentare în care elevii planifică şi fac alegeri cu privire la activitatea proprie, se gândesc la procesele lor de gândire (metacogniţie) şi evaluează prograsul propri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if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caţi secţiunea Proceduri de instruire în funcţie de aspectele avute în vede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uiţi secţiunea Strategii pentru instruire diferenţiată folosind ce aţi învăţat în acest modul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planul unităţii de învăţar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7D7D-6585-4D21-9A98-7905383E65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2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 5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Refl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tarea asupra propriei învăţări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9)</a:t>
            </a:r>
            <a:endParaRPr b="1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4760" y="1371600"/>
            <a:ext cx="832464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 1: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Recapitularea mod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unctele cheie ale modului 6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Tran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ziţia la învăţarea centrată pe elev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ecesită adaptări atât din p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rtea elevilor cât şi a profesorilo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rofesorii trebuie să lucreze cu elevii pentru a-i ajuta să-şi dezvolte abilităţile d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învăţare independentă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levii trebuie să aibă un rol activ în procesul de învăţare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pot utiliza strategii diferenţiate din perspectiva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ţinut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ce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sulu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d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uselor fina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Mediului de învăţa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Profesorii trebuie să aibă în vedere diferitele stiluri de învăţar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Sprijinirea nevoilor tuturor elevilor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 necesită un cadrul corespunzător astfel încât elevii să devină încrezători şi independenţi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8252-7EFB-431B-BA41-3F5782FCF7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ilor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Activit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atea 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5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Refle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ctarea asupra propriei învăţăr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1880" y="1501560"/>
            <a:ext cx="823752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Înregistrarea reflecţiilor pe blog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19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ţi asupra activităţilor, capacităţilor şi abordărilor discutate în acest modul şi apoi deschideţi blog-ul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ţi asupra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pectelo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în care acest modul v-a ajutat să planificaţi şi să creaţi unitatea de învăţare răspunzând la întrebări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îi pot ajuta pe elevii mei să-şi organizeze propria activitate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t susţine diversele nevoi ale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Gândiţi-vă ce impact vor avea cunoştinţele câştigate din acest modul asupra modului dvs. de predare şi asupra studiului elevilor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registraţi părerile, reflecţiile, întrebările şi îngrijororile pe blo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8709-5962-44FB-B029-F497320C35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am studi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9280" y="1198440"/>
            <a:ext cx="82375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 1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Predarea bazată pe proiec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Bazele învăţării prin proiecte şi design-ul unităţii de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2: Plan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ificarea propriei unităţi d e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Dezvoltarea întrebărilor de încadrare a curriculumului şi evaluarea continuă centrată pe elev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3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Realizarea conexiuni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Internetul ca suport pentru predare şi învăţa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4: Cr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area exemplelor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Rezultatele proiectelor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 (p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zentăr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, publica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ţ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, wiki, blo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5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a proiectelor elevilo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  <a:ea typeface="Times New Roman"/>
              </a:rPr>
              <a:t>Evaluarea formativă şi sumativă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AA87-DB44-41FE-8A5F-8B4DE86DF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lan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ificarea în avans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lanificarea în avans a materialelor de facilita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Pasul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1: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</a:rPr>
              <a:t>Gândiţi-vă în avans la utilitatea resurselor de facilitare pentru unitatea dvs.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6.2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paginile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6.21–6.22,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unt prezentate strategii de predare pe care profesorii ar trebui să le includă în diferitele etape ale planificării unităţ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începutul unităţii de învăţare, includeţi strategii pentru stabilirea obiective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În timpul unităţii includeţi strategii pentru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on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itorizarea progresului pentru atingerea obiective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roduc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rea cunoştinţelor noi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xersarea, revizuirea şi aplicarea cunoştinţel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a finalul unităţii de învăţare, includeţi strategii pentru a ajuta elevii să determine cât de bine şi-au atins obiective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57B7-0ABF-44E1-9EFD-9AB0B35813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br>
              <a:rPr sz="9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lan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ificarea în avans</a:t>
            </a:r>
            <a:br>
              <a:rPr sz="2200"/>
            </a:b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lanificarea în avans a materialelor de facilita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1880" y="1530360"/>
            <a:ext cx="8237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2: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Brainstorming – materiale de facilitare create pentru unitatea de învăţare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(6.2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de facilitare aţi creat deja pe care doriţi să le folosiţi neschimbate sau să le modificaţi pentru unitatea dv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de suport pentru profesor v-ar ajuta să fiţi mai eficien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noi de facilitare ar îmbunătăţi învăţarea elevilor dvs.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ateriale suplimentare de facilitare ar fi utile pentru a facilita implementarea unităţii dv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BE21-03A2-4538-9086-C6941DDB90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rivind înainte!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3680" y="719280"/>
          <a:ext cx="8218440" cy="5419440"/>
        </p:xfrm>
        <a:graphic>
          <a:graphicData uri="http://schemas.openxmlformats.org/drawingml/2006/table">
            <a:tbl>
              <a:tblPr/>
              <a:tblGrid>
                <a:gridCol w="2628720"/>
                <a:gridCol w="55897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 7: Facilita</a:t>
                      </a: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are prin tehnologi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cus:</a:t>
                      </a:r>
                      <a:r>
                        <a:rPr b="0" lang="en-US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rofesorul ca facilit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ultate aşteptate</a:t>
                      </a: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Folosirea întrebărilor pentru a promova gândirea de nivel superior şi pentru a implica elev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uto-evaluarea facilităţilor create pentru a le adapta învăţării centrate pe el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 materialelor de facilit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re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 unui plan de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mplement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vi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zuirea planului unităţii de învăţar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ţii asupra propriei învăţări pe blog şi discuţii cu partener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oca</a:t>
                      </a:r>
                      <a:r>
                        <a:rPr b="0" lang="ro-RO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lizarea resurselor de Internet pentru profeso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45EB-7F89-4CF4-BE5D-EC6690DDB3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0A44-205D-4658-B462-B0EA14F668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8B25-0C23-4D4D-A31D-D05AB98A04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8840" y="4459320"/>
            <a:ext cx="830124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6: Plan</a:t>
            </a:r>
            <a:r>
              <a:rPr b="1" lang="ro-RO" sz="2200" spc="-1" strike="noStrike">
                <a:solidFill>
                  <a:srgbClr val="ffffff"/>
                </a:solidFill>
                <a:latin typeface="Verdana"/>
              </a:rPr>
              <a:t>ificarea pentru succesul elevului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3CF4-68FC-441F-9991-8B5E240190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3120" y="32868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studi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565200" y="1528920"/>
            <a:ext cx="389268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Focus: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60a8"/>
                </a:solidFill>
                <a:latin typeface="Verdana"/>
                <a:ea typeface="Times New Roman"/>
              </a:rPr>
              <a:t>Materiale suport pentru elevi şi dezvoltarea gândirii proprii a acesto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0472-D1F2-43FF-9238-98B923F562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860a8"/>
                </a:solidFill>
                <a:latin typeface="Verdana"/>
                <a:ea typeface="Times New Roman"/>
              </a:rPr>
              <a:t>Rezultate aşteptate</a:t>
            </a:r>
            <a:r>
              <a:rPr b="0" lang="en-US" sz="3200" spc="-1" strike="noStrike">
                <a:solidFill>
                  <a:srgbClr val="0860a8"/>
                </a:solidFill>
                <a:latin typeface="Verdana"/>
                <a:ea typeface="Times New Roman"/>
              </a:rPr>
              <a:t>: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ercetarea strategiilor pentru instruirea diferenţiată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rearea unei evaluări care să încurajeze autonomia în    gândire a elevului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C</a:t>
            </a: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area materialelor suport pentru elev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vizuirea planului unităţii de învăţare din perspectiva planificării pentru succesul elevului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Reflec</a:t>
            </a:r>
            <a:r>
              <a:rPr b="0" lang="ro-RO" sz="2100" spc="-1" strike="noStrike">
                <a:solidFill>
                  <a:srgbClr val="0860a8"/>
                </a:solidFill>
                <a:latin typeface="Verdana"/>
                <a:ea typeface="Times New Roman"/>
              </a:rPr>
              <a:t>tare asupra propriei învăţări pe blog</a:t>
            </a:r>
            <a:endParaRPr b="0" lang="en-US" sz="2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0EDC-2EEE-4B79-82B8-046CC36C29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51360" y="272880"/>
            <a:ext cx="7589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ntrebarea esenţială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856040" y="1371600"/>
            <a:ext cx="3892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ate fi folosită tehnologia cel mai eficient pentru a susţine şi evalua învăţarea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Întrebările modululu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îi pot ajuta pe elevi să-şi formeze automonia în gândi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ot susţine diversele nevoi de învăţare ale  elevilo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691160" cy="60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1322-686A-4653-BB72-544FA1D3CF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Ce mai avem de studiat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7: Facil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itarea învăţării prin tehnologie </a:t>
            </a: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Profesorul ca facilitat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Module 8: </a:t>
            </a:r>
            <a:r>
              <a:rPr b="1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Prezentarea portofoliilor unităţilor de învăţa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S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  <a:ea typeface="Times New Roman"/>
              </a:rPr>
              <a:t>chimb de opinii cu privire la portofoliile realiz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2DFA-53A3-48A1-B4FC-6AE8B7E337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Lucraţi în perechi şi comunicaţi</a:t>
            </a:r>
            <a:br>
              <a:rPr sz="2200"/>
            </a:b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200" spc="-1" strike="noStrike">
                <a:solidFill>
                  <a:srgbClr val="0860a8"/>
                </a:solidFill>
                <a:latin typeface="Verdana"/>
              </a:rPr>
              <a:t>Exemplul pentru elevi şi modul de evaluare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6.01)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200" y="1371240"/>
            <a:ext cx="4573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Răspundeţi la întrebăril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se potriveşte cu obiectivele unităţii de învăţar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descrie clar şi specific rezultatele şi aşteptări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este în concordanţă cu întrebarea esenţială şi de unitat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emplu pentru elevi creat are în vedere rezultatele şi aşteptările dorite ale evaluări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941720" y="1257480"/>
          <a:ext cx="3973680" cy="35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1720" y="1257480"/>
                    <a:ext cx="3973680" cy="35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00CE-D09B-4521-95A7-7992EC3974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60a8"/>
                </a:solidFill>
                <a:latin typeface="Verdana"/>
              </a:rPr>
              <a:t>Modul 6: Plan</a:t>
            </a:r>
            <a:r>
              <a:rPr b="1" lang="ro-RO" sz="1000" spc="-1" strike="noStrike">
                <a:solidFill>
                  <a:srgbClr val="0860a8"/>
                </a:solidFill>
                <a:latin typeface="Verdana"/>
              </a:rPr>
              <a:t>ificarea pentru succesul elevului</a:t>
            </a:r>
            <a:br>
              <a:rPr sz="10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ractici pedagogice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Susţinerea elevilor să lucreze prin metoda proiectului în cazul învăţării centrate pe elev</a:t>
            </a: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(6.02)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1520" y="1444320"/>
            <a:ext cx="83250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În proiecte elevii sunt solicitaţi să ia decizii, să lucreze în colaborare, să preia iniţiativa şi să efectueze prezentări publice – toate acestea pot fi dificile la început pentru elevi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. 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Prin brainstorming răsp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u</a:t>
            </a:r>
            <a:r>
              <a:rPr b="0" lang="ro-RO" sz="2000" spc="-1" strike="noStrike">
                <a:solidFill>
                  <a:srgbClr val="0860a8"/>
                </a:solidFill>
                <a:latin typeface="Verdana"/>
              </a:rPr>
              <a:t>ndeţi în grupurile formate la următoarele întrebări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îi pot ajuta pe elevii mei să-şi dezvolte autonomia în gândire şi să ia decizii optime pentru finalizarea sarcinilor proiectului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utem ajuta elevii să devină doritori să investigheze şi să răspundă la întrebări complexe/deschis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um putem încuraja şi susţine elevii în timp ce îşi asumă roluri noi care se potrivesc cel mai bine talentelor lor individual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e modele putem fur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a pentru a ajuta elevii să reflecteze şi să valorifice experienţa şi gândirea independentă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Opţional: </a:t>
            </a:r>
            <a:r>
              <a:rPr b="0" lang="ro-RO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Assessingprojects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5644-9A02-4AB2-99CB-5B274CA768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Filonela Rodica Balasa</cp:lastModifiedBy>
  <cp:lastPrinted>2006-11-14T00:45:04Z</cp:lastPrinted>
  <dcterms:modified xsi:type="dcterms:W3CDTF">2007-08-17T11:32:27Z</dcterms:modified>
  <cp:revision>145</cp:revision>
  <dc:subject/>
  <dc:title>Presentation Title Goes Here</dc:title>
</cp:coreProperties>
</file>